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6BF7-4F5B-4849-8B2C-BBD6994AAF7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93E8-CCDB-4115-8412-1D35B1C5537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9E41-A6FD-4998-A874-BADEA261621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0A0D-A4F7-44E3-82E3-D16959010CA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3236-F06B-467E-8F23-395154DCC80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409-D4E8-4D6E-9644-7DEDB8B9819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148C-5A3F-4680-ACF0-009EC6DF6B7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D87-E742-4E59-9A7F-681DC85BECE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EB65-E5A5-445D-ABAF-CCA6778C176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5E03-B5F0-44CD-89C7-AC489865854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541F-98E8-409A-9C19-C1D97D8E386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D085-219D-475A-8E3E-B5337C4981F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C2B7-2CAF-41D0-857F-29A0430C7A2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4EE0-79A4-4738-B1C1-C326A12CA4E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6807-1E4D-4E7A-A893-70B0E19D9EE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F0E8-FD40-41AC-8FE3-C0BA4493D59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E513-2D52-4C72-ADD9-95E7030E7FB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ACEE-F5F2-4A26-A30D-F5FD3ABF181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719F-FAB6-41F0-AF13-CAD64F4C056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A8D4-AB1E-45A3-AD47-A8C1C9E11B4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FEEA-14BA-4672-8BA4-87A05411455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38BC-886A-49ED-81F5-F2A7709C19A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913-F119-478C-85B5-242EE876F68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1DCF-0A03-4001-950B-033D17D4B10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09FE-D65D-4EA7-A1F7-04BC2D6707A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307-AA6B-41CB-9F8A-4610921F91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C68-F931-4419-B2C7-815B0F59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BE2-C72E-4B64-ABDE-2329476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E1E8E-1295-4D06-842F-D4FCC7EA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63D44-782B-4C3D-A85E-1BB18FC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703B9-8442-4B11-AEC2-C1124E6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738C5-B9A0-4200-AA10-BDAEE812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980A4-1AE4-4B2C-A293-C695F2DC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A60E6-98AC-46B2-AEC7-79DABD8A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51AB4-D5EE-46EF-A93B-BCDCFC7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D0297-224D-4A59-BD73-3EACEEFF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0011F-E36A-4116-9393-980A6B16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1F4F2-45D4-4118-BC5A-CB935483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591-BA4F-4ABD-9D20-FBDE4A29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4EDFE-66FF-47F3-94F3-3012890A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1753D-C5CD-4940-9CF9-2E7D46C3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C44E8-582B-4445-AFBD-5002228E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A9D81-6BB6-4679-8D06-80E7CC31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1E192-5A40-4123-BCA4-C9400EC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A7ECA-D66A-47E4-A39A-4ADB069C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AA79C-58DF-483F-BADF-A1389EE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DBAC5-1560-4354-980F-59E3933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CE84A-A0F1-4051-8434-4CC11A8B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2671E-C498-4C7B-8A67-A1D415B0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69D-624E-4DA3-8F4E-19C071FE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4DD9F-6A1E-45B5-83F0-45162A9F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D48B3-0E27-46E2-A4B4-451E4924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CCBC3-0AD4-4792-9BB9-6B9DD3DF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02B0E-3ADD-4E2A-95F3-86CA79B7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907CA-215B-446D-9276-F8C2D3E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37EE7-05E8-408A-B446-D8AF240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0F343-51B2-4935-948C-DD2C2980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B94F8-1585-4846-8492-123443D2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C1004-E4EA-4D8E-A02E-4CA284D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76067-2EE2-4DF5-96FE-EA47EACF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15C8-2878-4E06-8D7E-B04F6624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850BE-08EC-46F9-B4EE-B635D60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C65F6-26CD-4BAF-BAAD-07E696D8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FA475-AD12-49E1-832C-538FB302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24500-4130-4D54-A89A-4871A5A1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10978-2B63-4F7D-B649-FA301FDD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AFEAC-DE37-453B-8394-4F479AAD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8B640-7532-428C-AAEA-6C48B41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B9F1D-68EC-4EFB-B505-BCCD2253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0E970-9590-43FB-956C-1803453B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B0262-EF80-4E23-8C86-F4527FDE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238D-70B5-4E36-9497-18C4812C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FE426-D2BB-4374-9638-ED18FED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B3E9C-A50B-46D3-BE6E-3D49133A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EE2C7-030D-446A-A34C-E5C13797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088E4-FC5D-4D97-9A73-0F0250BC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2D80E-65AC-41D9-BD3C-BF59D430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5F4C2-0AFB-421A-A033-447F3BDB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4A995-E35B-44D6-A486-BEE61F3E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93086-6E5F-4DE9-8A95-DED4EA84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E3228-AF8E-4055-AFCB-05360D5C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F31BD-A6D0-4E32-8151-BD1F3E62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EF53-42DB-4BB4-8943-539EB9AB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F6B0D-7B26-4E7A-8732-415639B0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387AA-5D2D-4894-B5D6-5F3A2895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F7A58-C4F2-4907-8CFB-8CC555B2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C8733-336B-4F76-A09E-0A26338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F247A-9B9F-459E-98F1-55E03814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8FD33-40C7-42AA-BEE2-4736D9DE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7B197-2B88-444A-B72D-50EA3343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D1747-6FFE-432A-B2E6-0A503419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77049-FCAB-400A-A47E-1B9F5042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F6912-A436-4EDD-A032-24197E27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B1FA-D516-4D0C-8E29-181ECFE6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F2A49-80C6-49C7-92B7-DE23A35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87A22-A70F-4E63-816B-290BBF44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EF200-EFC1-4D22-8F8C-4AC758E6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95A87-0139-43A9-9136-C6826C09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4C1AF-6E0A-48D5-998B-30F3875B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14318-6E60-4503-B472-046052E2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A7B28-2A95-4C19-8BC2-2A1A200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33673-3A14-46AE-92B1-EF0D672F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DC5E9-75EB-44EC-A407-E6E92DE8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6A71E-8E25-4C78-B377-0D2F6C10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7AA1-FE3B-48C6-854C-216CB4C8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81D43-F608-4F56-9FC2-01B0FE20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DB173-66AA-4A49-A9CA-00FC946D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6A048-8896-43F8-9782-5BC78BCD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801B7-996D-443F-92FE-9EC7B21E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2A3E6-12DA-439D-9812-9E303396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0DE09-7D05-46F5-B929-868F25EC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CF72B-A79B-42A8-9620-0640F17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464B5-A049-4A84-8129-E2862B3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8A890-6B56-484D-9609-722664F5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F6DC4-14A5-4B9C-8B23-CBBDB9C5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F675-AB17-450C-9156-4D3CAC62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52F01-A394-42EF-AB38-306A9DB2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97C6-FEB2-4002-979C-C5AC1465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78E-1C4C-46B4-845D-74381C0F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2D92-E872-4760-A40C-CD4B8A51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3498-02FE-46F4-9D17-A27E774A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2ACC-54AD-4476-ADE7-6ABD0AB0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30AA-69B8-45AC-A514-C10265C8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EEAE-9CB4-4FE6-BCD2-33690581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30D6-276E-45C9-AAF5-F432E634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A828-6655-406D-BC25-EA713B46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E9A2-D179-497D-99F6-4C281A9A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E953-56D0-4EB7-A3C6-B9AF427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E5B9-5891-4C84-90C5-8E68D985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596-EA75-4A75-A936-2254645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95B6-50EF-445A-BB1E-A7E6BC33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2E1E-9372-4779-9D36-0938F3A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AC90-E988-4C0A-9860-101ED9A9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427C-20C2-49BE-8A70-5FB88A6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F78B-34C1-4FDC-B68A-6E2477A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BF15-C4D3-447D-9B30-068EE068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1D70D-27BF-498D-B0CF-7D60F618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BFE9-FE81-4F43-B42F-7D41A48C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EB72-DE86-4009-83C0-13C3423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4C6F-A003-4B66-80D3-C3E3207E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6F0-7168-47A8-8A3D-81C455D2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F1CA-A0D6-4878-B8FF-14FEE1A0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289C-1D4B-45DF-BDD6-9F046DB3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B908-4A52-4F18-9A10-A483AFA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28574-D170-4EF7-992C-26563806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D1F2-6946-4A73-BEC4-5B97C9F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A9BFA-C75C-45FB-88FD-D28669A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9C64-26E8-425E-B9A6-B179FDD8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5FCB-AD1E-4040-A0F4-618303DE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C170-4A1A-4EEC-94B1-D5FE422D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B9F94-A93B-4E79-A90F-16CF14F8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8BA-9DCC-4364-B09C-213856C6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4EA71-C207-4022-84CA-FBF5FF09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1F289-5E90-4084-8B8D-382A1ACA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99C2A-0A77-44B5-93A5-419C10B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F89AB-3A72-4005-BCD8-25B203A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39FB6-88F3-4D88-9A83-59BC6EB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0D836-3115-440F-9DDB-1ED4E774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2747F-31FA-4D5E-B72B-B94E7C82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4CFB-9AD8-4B10-A845-304A777F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7B5FF-6334-4E60-A63B-32C73FD0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FEA0-6C10-44FC-906C-AA6C2CC0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3ED-F2C2-4D2F-BE19-42F13E23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B0EE7-0676-449C-A4A7-9A249EDC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15B3F-FBB9-46D5-9510-1F77C952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C7FF-1E5A-4F7A-AF82-2E11F80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03DF7-AE41-40BF-ACB5-D2F3E2AB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031EF-1EFD-4ECF-BEA6-47BB416C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83493-5FC5-4CBD-9BCA-6135A671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A8FC-57D6-4712-B36D-CD25ED8A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8D534-3184-4451-B6A7-936DC16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6EE7A-AE14-4C11-89FB-3C314C16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8A26A-BE17-4B11-B3CE-A9E16043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8C5-934E-4BF3-A7AC-5B3A6775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3D5C7-5252-425C-92C0-D48BEC3E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EDC7-27B0-4ED9-9CDC-B600D99B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9619-136B-4113-A8B7-0A9E86D6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DCFC4-E359-45F7-A333-FB402149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CA3B2-B8B9-455E-BD62-ACBB139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889A7-5C84-4DEA-8DA1-E1FAF647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72413-FD0F-4EF6-9F56-1701FCFC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2659-9DFE-461F-BF6A-587309C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9FC2-1025-4823-8B31-6CBE183F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B27DF-3E1F-406C-AE1F-BD5CFA5D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A62-37D4-4F54-AB7B-B52C62E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75BA7-6D98-4485-9538-6754DBB4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CDA8F-F399-4BAF-9B38-9BCCB101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73B9-1DE2-4405-B04E-7B2B0B28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FD3D-9225-4A89-90EB-5D4336A4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2D534-8F6A-4E00-85E7-09EC7756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6E82-E894-4EBB-A180-07A12FBD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EE177-C18F-4D16-8665-D875A3D5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8744B-68D3-4002-BB2B-BAC2328F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6F6A6-0360-43D4-8C75-9221410E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499F9-6BD2-48C2-BF0B-2B27812F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E04-745A-407E-BE46-030EE02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46DFD-5F0D-490E-ABE8-6627B838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0DD5E-702F-4162-88F4-9B0F94A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17FA5-9B87-463C-8A1C-9949B44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21DA0-4BF7-4395-98B8-F5086C5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515D5-D3DF-4A4E-B131-DC53FFFF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D9704-5376-405E-8E30-5332197C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50454-CB20-4F27-9FF6-CF3671EA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A788A-ECAF-4883-A275-E4045910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83D35-FD8F-4D5F-BD49-2C61F281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85B4D-2A86-420E-B8FC-0C1F0F8E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5D1-2EB0-4FF0-9E1A-4E553EB88B6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064-677C-470D-A9E9-D1476EE4A473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F2CA-884B-4FB8-A870-4C8058FE6981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1D28-6638-4C96-8140-3C907DA2D9F5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183-E353-4D09-854E-AC4367E09A15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80A1-E01C-469D-BDE0-F40B2A9F262B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F38-F405-4873-B0EA-0FD513EFD53B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348-2AD8-4644-90B5-47A73C74712D}" type="slidenum">
              <a:rPr b="0" lang="es-A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4909-A7BF-4F8F-BC83-635D34FA586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4747-D848-4FF6-AE64-D322C040EB9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D58A-7919-4924-8C2A-A21C5D40C71C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0C59-5C93-4E43-A141-CBDFEC8276F0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AD09-9C96-4DBE-BE3F-203B9762A6CB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FC19-2C16-4B80-856F-1EA67B05B03D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466F-E9E9-4A21-A9C6-FFF0DE3A6934}" type="slidenum">
              <a:rPr b="0" lang="es-A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5"/>
          <p:cNvSpPr/>
          <p:nvPr/>
        </p:nvSpPr>
        <p:spPr>
          <a:xfrm>
            <a:off x="376200" y="907920"/>
            <a:ext cx="8389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7 (IA y LCyTA).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acronutrientes: Proteínas. Proteínas de los alimentos. Importancia. Digestión de proteínas. Acción de proteasas y peptidasas. Metabolismo de aminoácidos. Absorción de aminoácidos. Vías generales del metabolismo de aminoácidos. Degradación de aminoácidos: transaminación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y desaminación. Desaminación oxidativa. Desaminación no-oxidativa. Destino metabólico del amonio formado. Ciclo de la urea. Destino de las cadenas carbonadas. Aminoácidos glucogénicos y cetogénicos.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iosíntesis de aminoácidos. Los aminoácidos como precursores de otras biomoléculas. Modificación de los alimentos: Pardeamiento enzimático. Fijación de nitróge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8 (LBM): PROTEINAS Y AMINOACIDOS. Digestión de proteínas. Absorción de aminoácidos. METABOLISMO DE AMINOACIDOS: Catabolismo del nitrógeno de aminoácidos. Transaminación. 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Desaminación oxidativa del glutamato. Desaminación no oxidativa. Vías metabólicas del amoníaco. Formación de glutamina. Glutaminasa. Formas de excreción del nitrógeno (amoniotélicos, ureotélicos y uricotélicos). Formación de urea: Ciclo de la ornitina. Costo energético. Interconexión con el ciclo de Krebs. Ciclo de la glucosa-alanina. Catabolismo del esqueleto carbonado de los aminoácidos. Aminoácidos cetogénicos y glucogénicos. Vías metabólicas a piruvato. Vías del alfa-cetoglutarato, del oxalacetato, de fumarato y acetoacetil CoA.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iosíntesis de aminoácidos no esenciales. Funciones precursoras de los aminoácidos. Biosíntesis de aminas biógenas: Adrenalina, Noradrenalina, dopamina, histamina,triptamina, tiramina, ác. gamma aminobutírico, serotonina. Síntesis de: Glutatión, creatina, creatinina y óxido ní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250920" y="26028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A, LCyTA, L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Cuadro de texto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EL AMONIACO  Ó  ION AMONIO ES TOX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7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8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4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Text Box 10"/>
          <p:cNvSpPr/>
          <p:nvPr/>
        </p:nvSpPr>
        <p:spPr>
          <a:xfrm>
            <a:off x="2373840" y="6778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11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888" name="Picture 12" descr=""/>
            <p:cNvPicPr/>
            <p:nvPr/>
          </p:nvPicPr>
          <p:blipFill>
            <a:blip r:embed="rId2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Text Box 13"/>
            <p:cNvSpPr/>
            <p:nvPr/>
          </p:nvSpPr>
          <p:spPr>
            <a:xfrm>
              <a:off x="994320" y="3938400"/>
              <a:ext cx="123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14"/>
            <p:cNvSpPr/>
            <p:nvPr/>
          </p:nvSpPr>
          <p:spPr>
            <a:xfrm>
              <a:off x="5995080" y="3938400"/>
              <a:ext cx="1707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15"/>
            <p:cNvSpPr/>
            <p:nvPr/>
          </p:nvSpPr>
          <p:spPr>
            <a:xfrm>
              <a:off x="3119400" y="3229560"/>
              <a:ext cx="291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Line 16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17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18"/>
          <p:cNvGrpSpPr/>
          <p:nvPr/>
        </p:nvGrpSpPr>
        <p:grpSpPr>
          <a:xfrm>
            <a:off x="820800" y="5032440"/>
            <a:ext cx="2454480" cy="557280"/>
            <a:chOff x="820800" y="5032440"/>
            <a:chExt cx="2454480" cy="557280"/>
          </a:xfrm>
        </p:grpSpPr>
        <p:sp>
          <p:nvSpPr>
            <p:cNvPr id="895" name="Line 19"/>
            <p:cNvSpPr/>
            <p:nvPr/>
          </p:nvSpPr>
          <p:spPr>
            <a:xfrm>
              <a:off x="82080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20"/>
            <p:cNvSpPr/>
            <p:nvPr/>
          </p:nvSpPr>
          <p:spPr>
            <a:xfrm>
              <a:off x="874080" y="5032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6699"/>
                  </a:solidFill>
                  <a:latin typeface="Arial"/>
                </a:rPr>
                <a:t>α</a:t>
              </a: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-cetogluta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21"/>
          <p:cNvGrpSpPr/>
          <p:nvPr/>
        </p:nvGrpSpPr>
        <p:grpSpPr>
          <a:xfrm>
            <a:off x="3367080" y="5013360"/>
            <a:ext cx="3180960" cy="576360"/>
            <a:chOff x="3367080" y="5013360"/>
            <a:chExt cx="3180960" cy="576360"/>
          </a:xfrm>
        </p:grpSpPr>
        <p:sp>
          <p:nvSpPr>
            <p:cNvPr id="898" name="Line 22"/>
            <p:cNvSpPr/>
            <p:nvPr/>
          </p:nvSpPr>
          <p:spPr>
            <a:xfrm>
              <a:off x="336708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23"/>
            <p:cNvSpPr/>
            <p:nvPr/>
          </p:nvSpPr>
          <p:spPr>
            <a:xfrm>
              <a:off x="41590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24"/>
            <p:cNvSpPr/>
            <p:nvPr/>
          </p:nvSpPr>
          <p:spPr>
            <a:xfrm>
              <a:off x="4233600" y="501336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25"/>
          <p:cNvGrpSpPr/>
          <p:nvPr/>
        </p:nvGrpSpPr>
        <p:grpSpPr>
          <a:xfrm>
            <a:off x="6599160" y="5013360"/>
            <a:ext cx="1570680" cy="576360"/>
            <a:chOff x="6599160" y="5013360"/>
            <a:chExt cx="1570680" cy="576360"/>
          </a:xfrm>
        </p:grpSpPr>
        <p:sp>
          <p:nvSpPr>
            <p:cNvPr id="902" name="Line 26"/>
            <p:cNvSpPr/>
            <p:nvPr/>
          </p:nvSpPr>
          <p:spPr>
            <a:xfrm>
              <a:off x="659916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7"/>
            <p:cNvSpPr/>
            <p:nvPr/>
          </p:nvSpPr>
          <p:spPr>
            <a:xfrm>
              <a:off x="73198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8"/>
            <p:cNvSpPr/>
            <p:nvPr/>
          </p:nvSpPr>
          <p:spPr>
            <a:xfrm>
              <a:off x="7381080" y="50133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Oval 29"/>
          <p:cNvSpPr/>
          <p:nvPr/>
        </p:nvSpPr>
        <p:spPr>
          <a:xfrm>
            <a:off x="6084720" y="2060640"/>
            <a:ext cx="1366920" cy="25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2"/>
          <p:cNvSpPr/>
          <p:nvPr/>
        </p:nvSpPr>
        <p:spPr>
          <a:xfrm>
            <a:off x="4346640" y="154620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CuadroTexto 1"/>
          <p:cNvSpPr/>
          <p:nvPr/>
        </p:nvSpPr>
        <p:spPr>
          <a:xfrm>
            <a:off x="555480" y="609300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AR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A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upo 7"/>
          <p:cNvGrpSpPr/>
          <p:nvPr/>
        </p:nvGrpSpPr>
        <p:grpSpPr>
          <a:xfrm>
            <a:off x="1231560" y="5861160"/>
            <a:ext cx="2988720" cy="600120"/>
            <a:chOff x="1231560" y="5861160"/>
            <a:chExt cx="2988720" cy="600120"/>
          </a:xfrm>
        </p:grpSpPr>
        <p:cxnSp>
          <p:nvCxnSpPr>
            <p:cNvPr id="909" name="Conector recto de flecha 3"/>
            <p:cNvCxnSpPr>
              <a:stCxn id="907" idx="3"/>
            </p:cNvCxnSpPr>
            <p:nvPr/>
          </p:nvCxnSpPr>
          <p:spPr>
            <a:xfrm>
              <a:off x="1231560" y="6278400"/>
              <a:ext cx="648360" cy="108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10" name="CuadroTexto 4"/>
            <p:cNvSpPr/>
            <p:nvPr/>
          </p:nvSpPr>
          <p:spPr>
            <a:xfrm>
              <a:off x="1512360" y="5861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b05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CuadroTexto 34"/>
            <p:cNvSpPr/>
            <p:nvPr/>
          </p:nvSpPr>
          <p:spPr>
            <a:xfrm>
              <a:off x="1904400" y="60930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Fosfofructo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upo 8"/>
          <p:cNvGrpSpPr/>
          <p:nvPr/>
        </p:nvGrpSpPr>
        <p:grpSpPr>
          <a:xfrm>
            <a:off x="4140360" y="5908680"/>
            <a:ext cx="1306440" cy="563400"/>
            <a:chOff x="4140360" y="5908680"/>
            <a:chExt cx="1306440" cy="563400"/>
          </a:xfrm>
        </p:grpSpPr>
        <p:cxnSp>
          <p:nvCxnSpPr>
            <p:cNvPr id="913" name="Conector recto de flecha 35"/>
            <p:cNvCxnSpPr/>
            <p:nvPr/>
          </p:nvCxnSpPr>
          <p:spPr>
            <a:xfrm>
              <a:off x="4140360" y="6310080"/>
              <a:ext cx="828000" cy="108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14" name="CuadroTexto 36"/>
            <p:cNvSpPr/>
            <p:nvPr/>
          </p:nvSpPr>
          <p:spPr>
            <a:xfrm>
              <a:off x="4503240" y="59086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b05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CuadroTexto 37"/>
            <p:cNvSpPr/>
            <p:nvPr/>
          </p:nvSpPr>
          <p:spPr>
            <a:xfrm>
              <a:off x="4935240" y="61038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upo 9"/>
          <p:cNvGrpSpPr/>
          <p:nvPr/>
        </p:nvGrpSpPr>
        <p:grpSpPr>
          <a:xfrm>
            <a:off x="5364000" y="5860440"/>
            <a:ext cx="2008080" cy="570240"/>
            <a:chOff x="5364000" y="5860440"/>
            <a:chExt cx="2008080" cy="570240"/>
          </a:xfrm>
        </p:grpSpPr>
        <p:cxnSp>
          <p:nvCxnSpPr>
            <p:cNvPr id="917" name="Conector recto de flecha 38"/>
            <p:cNvCxnSpPr/>
            <p:nvPr/>
          </p:nvCxnSpPr>
          <p:spPr>
            <a:xfrm>
              <a:off x="5364000" y="6278400"/>
              <a:ext cx="792720" cy="108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18" name="CuadroTexto 39"/>
            <p:cNvSpPr/>
            <p:nvPr/>
          </p:nvSpPr>
          <p:spPr>
            <a:xfrm>
              <a:off x="6379200" y="604872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9" name="Conector recto de flecha 40"/>
            <p:cNvCxnSpPr/>
            <p:nvPr/>
          </p:nvCxnSpPr>
          <p:spPr>
            <a:xfrm flipV="1">
              <a:off x="6308280" y="5860440"/>
              <a:ext cx="1080" cy="5706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920" name="Grupo 10"/>
          <p:cNvGrpSpPr/>
          <p:nvPr/>
        </p:nvGrpSpPr>
        <p:grpSpPr>
          <a:xfrm>
            <a:off x="7524360" y="5876640"/>
            <a:ext cx="608400" cy="576720"/>
            <a:chOff x="7524360" y="5876640"/>
            <a:chExt cx="608400" cy="576720"/>
          </a:xfrm>
        </p:grpSpPr>
        <p:cxnSp>
          <p:nvCxnSpPr>
            <p:cNvPr id="921" name="Conector recto de flecha 42"/>
            <p:cNvCxnSpPr/>
            <p:nvPr/>
          </p:nvCxnSpPr>
          <p:spPr>
            <a:xfrm>
              <a:off x="7524360" y="5876640"/>
              <a:ext cx="1080" cy="57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22" name="CuadroTexto 44"/>
            <p:cNvSpPr/>
            <p:nvPr/>
          </p:nvSpPr>
          <p:spPr>
            <a:xfrm>
              <a:off x="7647120" y="60066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24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25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9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0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Text Box 10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el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1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933" name="Picture 12" descr="fi20p14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Text Box 13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5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2103480" y="34290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sinte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7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8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9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0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"/>
            <p:cNvSpPr/>
            <p:nvPr/>
          </p:nvSpPr>
          <p:spPr>
            <a:xfrm>
              <a:off x="4716360" y="2492280"/>
              <a:ext cx="863640" cy="42660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RE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2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23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Glutamato 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(GD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4"/>
            <p:cNvSpPr/>
            <p:nvPr/>
          </p:nvSpPr>
          <p:spPr>
            <a:xfrm rot="18831600">
              <a:off x="4357800" y="407628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25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6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7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8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9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30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31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32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ICLO GLUCOSA-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33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34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Oval 35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36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37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38"/>
          <p:cNvSpPr/>
          <p:nvPr/>
        </p:nvSpPr>
        <p:spPr>
          <a:xfrm>
            <a:off x="3055320" y="580392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39"/>
          <p:cNvSpPr/>
          <p:nvPr/>
        </p:nvSpPr>
        <p:spPr>
          <a:xfrm>
            <a:off x="3132000" y="1773360"/>
            <a:ext cx="3095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0"/>
          <p:cNvSpPr/>
          <p:nvPr/>
        </p:nvSpPr>
        <p:spPr>
          <a:xfrm>
            <a:off x="6084720" y="5661000"/>
            <a:ext cx="2448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41"/>
          <p:cNvGrpSpPr/>
          <p:nvPr/>
        </p:nvGrpSpPr>
        <p:grpSpPr>
          <a:xfrm>
            <a:off x="3132000" y="3789360"/>
            <a:ext cx="3095640" cy="3068280"/>
            <a:chOff x="3132000" y="3789360"/>
            <a:chExt cx="3095640" cy="3068280"/>
          </a:xfrm>
        </p:grpSpPr>
        <p:sp>
          <p:nvSpPr>
            <p:cNvPr id="963" name="Rectangle 42"/>
            <p:cNvSpPr/>
            <p:nvPr/>
          </p:nvSpPr>
          <p:spPr>
            <a:xfrm>
              <a:off x="4427640" y="3789360"/>
              <a:ext cx="1762200" cy="29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43"/>
            <p:cNvSpPr/>
            <p:nvPr/>
          </p:nvSpPr>
          <p:spPr>
            <a:xfrm>
              <a:off x="3132000" y="4932720"/>
              <a:ext cx="3095640" cy="192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Rectangle 43"/>
          <p:cNvSpPr/>
          <p:nvPr/>
        </p:nvSpPr>
        <p:spPr>
          <a:xfrm>
            <a:off x="6227640" y="1765440"/>
            <a:ext cx="2895840" cy="50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3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6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6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Text Box 10"/>
          <p:cNvSpPr/>
          <p:nvPr/>
        </p:nvSpPr>
        <p:spPr>
          <a:xfrm>
            <a:off x="118728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Formas de excreción del nitrógeno en las diferentes especie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11"/>
          <p:cNvGrpSpPr/>
          <p:nvPr/>
        </p:nvGrpSpPr>
        <p:grpSpPr>
          <a:xfrm>
            <a:off x="577800" y="2060640"/>
            <a:ext cx="8026560" cy="3095640"/>
            <a:chOff x="577800" y="2060640"/>
            <a:chExt cx="8026560" cy="3095640"/>
          </a:xfrm>
        </p:grpSpPr>
        <p:pic>
          <p:nvPicPr>
            <p:cNvPr id="976" name="Picture 12" descr=""/>
            <p:cNvPicPr/>
            <p:nvPr/>
          </p:nvPicPr>
          <p:blipFill>
            <a:blip r:embed="rId2"/>
            <a:srcRect l="0" t="0" r="0" b="9026"/>
            <a:stretch/>
          </p:blipFill>
          <p:spPr>
            <a:xfrm>
              <a:off x="577800" y="2060640"/>
              <a:ext cx="8026560" cy="309564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977" name="Text Box 13"/>
            <p:cNvSpPr/>
            <p:nvPr/>
          </p:nvSpPr>
          <p:spPr>
            <a:xfrm>
              <a:off x="1154160" y="313992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Ion Amo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14"/>
            <p:cNvSpPr/>
            <p:nvPr/>
          </p:nvSpPr>
          <p:spPr>
            <a:xfrm>
              <a:off x="3818160" y="3500280"/>
              <a:ext cx="158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15"/>
            <p:cNvSpPr/>
            <p:nvPr/>
          </p:nvSpPr>
          <p:spPr>
            <a:xfrm>
              <a:off x="6481800" y="371628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cido U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16"/>
            <p:cNvSpPr/>
            <p:nvPr/>
          </p:nvSpPr>
          <p:spPr>
            <a:xfrm>
              <a:off x="722520" y="393228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amon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ayoría de vertebrados acuátic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7"/>
            <p:cNvSpPr/>
            <p:nvPr/>
          </p:nvSpPr>
          <p:spPr>
            <a:xfrm>
              <a:off x="3330720" y="3927240"/>
              <a:ext cx="2519280" cy="10674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e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uchos vertebrados terrestres (incluido el hombre) y tiburon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8"/>
            <p:cNvSpPr/>
            <p:nvPr/>
          </p:nvSpPr>
          <p:spPr>
            <a:xfrm>
              <a:off x="5905440" y="4365360"/>
              <a:ext cx="2519640" cy="5806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ic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pájaros y repti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1 Rectángulo"/>
          <p:cNvSpPr/>
          <p:nvPr/>
        </p:nvSpPr>
        <p:spPr>
          <a:xfrm>
            <a:off x="533520" y="53960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En el hom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Urea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compuesto no tóxico y muy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A nivel renal parte del amoníaco se excreta como ión amonio siendo muy importante este mecanismo para el mantenimiento del equilibrio ácido-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8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8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Text Box 11"/>
          <p:cNvSpPr/>
          <p:nvPr/>
        </p:nvSpPr>
        <p:spPr>
          <a:xfrm>
            <a:off x="3403440" y="773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19"/>
          <p:cNvGrpSpPr/>
          <p:nvPr/>
        </p:nvGrpSpPr>
        <p:grpSpPr>
          <a:xfrm>
            <a:off x="1187280" y="1557360"/>
            <a:ext cx="4760280" cy="4524480"/>
            <a:chOff x="1187280" y="1557360"/>
            <a:chExt cx="4760280" cy="4524480"/>
          </a:xfrm>
        </p:grpSpPr>
        <p:sp>
          <p:nvSpPr>
            <p:cNvPr id="994" name="Text Box 15"/>
            <p:cNvSpPr/>
            <p:nvPr/>
          </p:nvSpPr>
          <p:spPr>
            <a:xfrm>
              <a:off x="3790080" y="580536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5" name="Picture 10" descr=""/>
            <p:cNvPicPr/>
            <p:nvPr/>
          </p:nvPicPr>
          <p:blipFill>
            <a:blip r:embed="rId2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996" name="Text Box 14"/>
            <p:cNvSpPr/>
            <p:nvPr/>
          </p:nvSpPr>
          <p:spPr>
            <a:xfrm>
              <a:off x="4532760" y="2708280"/>
              <a:ext cx="1335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13"/>
            <p:cNvSpPr/>
            <p:nvPr/>
          </p:nvSpPr>
          <p:spPr>
            <a:xfrm>
              <a:off x="4460040" y="5445000"/>
              <a:ext cx="1347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12"/>
            <p:cNvSpPr/>
            <p:nvPr/>
          </p:nvSpPr>
          <p:spPr>
            <a:xfrm>
              <a:off x="1476360" y="3297240"/>
              <a:ext cx="176040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Arial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mitocondrias de hígado y riñó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9" name="Picture 17" descr=""/>
          <p:cNvPicPr/>
          <p:nvPr/>
        </p:nvPicPr>
        <p:blipFill>
          <a:blip r:embed="rId3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1000" name="Group 21"/>
          <p:cNvGrpSpPr/>
          <p:nvPr/>
        </p:nvGrpSpPr>
        <p:grpSpPr>
          <a:xfrm>
            <a:off x="6012000" y="2984400"/>
            <a:ext cx="2443680" cy="1812960"/>
            <a:chOff x="6012000" y="2984400"/>
            <a:chExt cx="2443680" cy="1812960"/>
          </a:xfrm>
        </p:grpSpPr>
        <p:sp>
          <p:nvSpPr>
            <p:cNvPr id="1001" name="Text Box 16"/>
            <p:cNvSpPr/>
            <p:nvPr/>
          </p:nvSpPr>
          <p:spPr>
            <a:xfrm>
              <a:off x="6228360" y="2984400"/>
              <a:ext cx="22273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20"/>
            <p:cNvSpPr/>
            <p:nvPr/>
          </p:nvSpPr>
          <p:spPr>
            <a:xfrm>
              <a:off x="6012000" y="299736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36"/>
          <p:cNvGrpSpPr/>
          <p:nvPr/>
        </p:nvGrpSpPr>
        <p:grpSpPr>
          <a:xfrm>
            <a:off x="1692360" y="907920"/>
            <a:ext cx="5472000" cy="5722920"/>
            <a:chOff x="1692360" y="907920"/>
            <a:chExt cx="5472000" cy="5722920"/>
          </a:xfrm>
        </p:grpSpPr>
        <p:pic>
          <p:nvPicPr>
            <p:cNvPr id="1004" name="Picture 5" descr="Ciclo urea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16923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Oval 7"/>
            <p:cNvSpPr/>
            <p:nvPr/>
          </p:nvSpPr>
          <p:spPr>
            <a:xfrm>
              <a:off x="28321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8"/>
            <p:cNvSpPr/>
            <p:nvPr/>
          </p:nvSpPr>
          <p:spPr>
            <a:xfrm>
              <a:off x="54165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9"/>
            <p:cNvSpPr/>
            <p:nvPr/>
          </p:nvSpPr>
          <p:spPr>
            <a:xfrm>
              <a:off x="36687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0"/>
            <p:cNvSpPr/>
            <p:nvPr/>
          </p:nvSpPr>
          <p:spPr>
            <a:xfrm>
              <a:off x="54165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1"/>
            <p:cNvSpPr/>
            <p:nvPr/>
          </p:nvSpPr>
          <p:spPr>
            <a:xfrm>
              <a:off x="36669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12"/>
            <p:cNvSpPr/>
            <p:nvPr/>
          </p:nvSpPr>
          <p:spPr>
            <a:xfrm>
              <a:off x="27806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13"/>
            <p:cNvSpPr/>
            <p:nvPr/>
          </p:nvSpPr>
          <p:spPr>
            <a:xfrm>
              <a:off x="56541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14"/>
          <p:cNvGrpSpPr/>
          <p:nvPr/>
        </p:nvGrpSpPr>
        <p:grpSpPr>
          <a:xfrm>
            <a:off x="279000" y="270000"/>
            <a:ext cx="5056920" cy="4480920"/>
            <a:chOff x="279000" y="270000"/>
            <a:chExt cx="5056920" cy="4480920"/>
          </a:xfrm>
        </p:grpSpPr>
        <p:sp>
          <p:nvSpPr>
            <p:cNvPr id="1013" name="Oval 15"/>
            <p:cNvSpPr/>
            <p:nvPr/>
          </p:nvSpPr>
          <p:spPr>
            <a:xfrm rot="1738800">
              <a:off x="684000" y="1125000"/>
              <a:ext cx="4246560" cy="2770200"/>
            </a:xfrm>
            <a:prstGeom prst="ellipse">
              <a:avLst/>
            </a:prstGeom>
            <a:solidFill>
              <a:srgbClr val="ffcc99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16"/>
            <p:cNvSpPr/>
            <p:nvPr/>
          </p:nvSpPr>
          <p:spPr>
            <a:xfrm rot="16200000">
              <a:off x="656640" y="18226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17"/>
            <p:cNvGrpSpPr/>
            <p:nvPr/>
          </p:nvGrpSpPr>
          <p:grpSpPr>
            <a:xfrm>
              <a:off x="3897360" y="3408840"/>
              <a:ext cx="772560" cy="831600"/>
              <a:chOff x="3897360" y="3408840"/>
              <a:chExt cx="772560" cy="831600"/>
            </a:xfrm>
          </p:grpSpPr>
          <p:sp>
            <p:nvSpPr>
              <p:cNvPr id="1016" name="Oval 18"/>
              <p:cNvSpPr/>
              <p:nvPr/>
            </p:nvSpPr>
            <p:spPr>
              <a:xfrm rot="20964600">
                <a:off x="4002120" y="3572640"/>
                <a:ext cx="576360" cy="576360"/>
              </a:xfrm>
              <a:prstGeom prst="ellipse">
                <a:avLst/>
              </a:prstGeom>
              <a:solidFill>
                <a:srgbClr val="ff9900">
                  <a:alpha val="9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9"/>
              <p:cNvSpPr/>
              <p:nvPr/>
            </p:nvSpPr>
            <p:spPr>
              <a:xfrm flipH="1" flipV="1">
                <a:off x="3897360" y="3714120"/>
                <a:ext cx="318240" cy="5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20"/>
              <p:cNvSpPr/>
              <p:nvPr/>
            </p:nvSpPr>
            <p:spPr>
              <a:xfrm flipH="1" flipV="1">
                <a:off x="4352040" y="3408840"/>
                <a:ext cx="317880" cy="52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9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0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21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5" name="Picture 2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6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Text Box 29"/>
          <p:cNvSpPr/>
          <p:nvPr/>
        </p:nvSpPr>
        <p:spPr>
          <a:xfrm>
            <a:off x="320616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30"/>
          <p:cNvGrpSpPr/>
          <p:nvPr/>
        </p:nvGrpSpPr>
        <p:grpSpPr>
          <a:xfrm>
            <a:off x="2987640" y="981000"/>
            <a:ext cx="2233080" cy="576000"/>
            <a:chOff x="2987640" y="981000"/>
            <a:chExt cx="2233080" cy="576000"/>
          </a:xfrm>
        </p:grpSpPr>
        <p:sp>
          <p:nvSpPr>
            <p:cNvPr id="1029" name="Line 31"/>
            <p:cNvSpPr/>
            <p:nvPr/>
          </p:nvSpPr>
          <p:spPr>
            <a:xfrm flipV="1">
              <a:off x="29876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32"/>
            <p:cNvSpPr/>
            <p:nvPr/>
          </p:nvSpPr>
          <p:spPr>
            <a:xfrm>
              <a:off x="3272040" y="981000"/>
              <a:ext cx="194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N-acetil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Oval 33"/>
          <p:cNvSpPr/>
          <p:nvPr/>
        </p:nvSpPr>
        <p:spPr>
          <a:xfrm>
            <a:off x="23400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rc 34"/>
          <p:cNvSpPr/>
          <p:nvPr/>
        </p:nvSpPr>
        <p:spPr>
          <a:xfrm flipH="1">
            <a:off x="4715640" y="1700280"/>
            <a:ext cx="505080" cy="288720"/>
          </a:xfrm>
          <a:custGeom>
            <a:avLst/>
            <a:gdLst/>
            <a:ahLst/>
            <a:rect l="l" t="t" r="r" b="b"/>
            <a:pathLst>
              <a:path fill="none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</a:path>
              <a:path stroke="0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  <a:lnTo>
                  <a:pt x="0" y="21587"/>
                </a:lnTo>
                <a:lnTo>
                  <a:pt x="742" y="-1"/>
                </a:lnTo>
                <a:close/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35"/>
          <p:cNvSpPr/>
          <p:nvPr/>
        </p:nvSpPr>
        <p:spPr>
          <a:xfrm>
            <a:off x="2050920" y="4941720"/>
            <a:ext cx="792360" cy="7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6"/>
          <p:cNvSpPr/>
          <p:nvPr/>
        </p:nvSpPr>
        <p:spPr>
          <a:xfrm>
            <a:off x="21250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8"/>
          <p:cNvSpPr/>
          <p:nvPr/>
        </p:nvSpPr>
        <p:spPr>
          <a:xfrm>
            <a:off x="65880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39"/>
          <p:cNvSpPr/>
          <p:nvPr/>
        </p:nvSpPr>
        <p:spPr>
          <a:xfrm rot="19897800">
            <a:off x="414000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0"/>
          <p:cNvSpPr/>
          <p:nvPr/>
        </p:nvSpPr>
        <p:spPr>
          <a:xfrm>
            <a:off x="1692360" y="472428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1"/>
          <p:cNvSpPr/>
          <p:nvPr/>
        </p:nvSpPr>
        <p:spPr>
          <a:xfrm>
            <a:off x="4211640" y="4869000"/>
            <a:ext cx="295272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42"/>
          <p:cNvSpPr/>
          <p:nvPr/>
        </p:nvSpPr>
        <p:spPr>
          <a:xfrm>
            <a:off x="5003640" y="1125360"/>
            <a:ext cx="216072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3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2413080" y="711360"/>
            <a:ext cx="44481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3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4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5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amil fosfato sintet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6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N-Acetil 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7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síntesis de las enzimas del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8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proteínas de la d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nani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9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10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11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12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1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53" name="Group 1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54" name="Rectangle 1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1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1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8" name="Picture 19" descr="logo UNSL"/>
              <p:cNvPicPr/>
              <p:nvPr/>
            </p:nvPicPr>
            <p:blipFill>
              <a:blip r:embed="rId5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9" name="Text Box 2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Formación de Carbamilfosfato:  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reso de Aspartato: 1 ATP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    AMP  +  PPi         2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TOTAL: 4 uniones ricas en energía  ó  3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4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5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6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65" name="Group 7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66" name="Rectangle 8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 Box 9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10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 Box 11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0" name="Picture 12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1" name="Text Box 13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2" descr=""/>
          <p:cNvPicPr/>
          <p:nvPr/>
        </p:nvPicPr>
        <p:blipFill>
          <a:blip r:embed="rId1"/>
          <a:stretch/>
        </p:blipFill>
        <p:spPr>
          <a:xfrm>
            <a:off x="1116000" y="1500120"/>
            <a:ext cx="7097760" cy="5097600"/>
          </a:xfrm>
          <a:prstGeom prst="rect">
            <a:avLst/>
          </a:prstGeom>
          <a:ln w="0">
            <a:noFill/>
          </a:ln>
        </p:spPr>
      </p:pic>
      <p:grpSp>
        <p:nvGrpSpPr>
          <p:cNvPr id="1073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74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75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0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Text Box 11"/>
          <p:cNvSpPr/>
          <p:nvPr/>
        </p:nvSpPr>
        <p:spPr>
          <a:xfrm>
            <a:off x="468360" y="5158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conexión del Ciclo de la 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 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2627280" y="22176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3"/>
          <p:cNvSpPr/>
          <p:nvPr/>
        </p:nvSpPr>
        <p:spPr>
          <a:xfrm>
            <a:off x="1963800" y="4667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548360" y="53863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113640" y="40053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upo 4"/>
          <p:cNvGrpSpPr/>
          <p:nvPr/>
        </p:nvGrpSpPr>
        <p:grpSpPr>
          <a:xfrm>
            <a:off x="3419280" y="4619520"/>
            <a:ext cx="1179360" cy="368280"/>
            <a:chOff x="3419280" y="4619520"/>
            <a:chExt cx="1179360" cy="368280"/>
          </a:xfrm>
        </p:grpSpPr>
        <p:cxnSp>
          <p:nvCxnSpPr>
            <p:cNvPr id="1087" name="Conector recto de flecha 2"/>
            <p:cNvCxnSpPr/>
            <p:nvPr/>
          </p:nvCxnSpPr>
          <p:spPr>
            <a:xfrm>
              <a:off x="3419280" y="4797000"/>
              <a:ext cx="36108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88" name="CuadroTexto 3"/>
            <p:cNvSpPr/>
            <p:nvPr/>
          </p:nvSpPr>
          <p:spPr>
            <a:xfrm>
              <a:off x="3770280" y="46195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Text Box 14"/>
          <p:cNvSpPr/>
          <p:nvPr/>
        </p:nvSpPr>
        <p:spPr>
          <a:xfrm>
            <a:off x="1977120" y="16621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179280" y="401400"/>
            <a:ext cx="8820360" cy="96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exógen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entes endógen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s de la diet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IM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Proteínas de membra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(vegetales o animales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enzimas, hormonas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-31680" y="4156200"/>
            <a:ext cx="2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7640" y="1557360"/>
            <a:ext cx="1800" cy="428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7308720" y="1557360"/>
            <a:ext cx="1800" cy="415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611280" y="1998720"/>
            <a:ext cx="8137440" cy="366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Digestión y absorción 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Degra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8"/>
          <p:cNvSpPr/>
          <p:nvPr/>
        </p:nvSpPr>
        <p:spPr>
          <a:xfrm>
            <a:off x="2987640" y="2492280"/>
            <a:ext cx="3382920" cy="865440"/>
          </a:xfrm>
          <a:custGeom>
            <a:avLst/>
            <a:gdLst>
              <a:gd name="textAreaLeft" fmla="*/ 772200 w 3382920"/>
              <a:gd name="textAreaRight" fmla="*/ 2610720 w 3382920"/>
              <a:gd name="textAreaTop" fmla="*/ 197640 h 865440"/>
              <a:gd name="textAreaBottom" fmla="*/ 667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5b3d7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9"/>
          <p:cNvSpPr/>
          <p:nvPr/>
        </p:nvSpPr>
        <p:spPr>
          <a:xfrm flipH="1" rot="16200000">
            <a:off x="6693840" y="2311920"/>
            <a:ext cx="578160" cy="792360"/>
          </a:xfrm>
          <a:custGeom>
            <a:avLst/>
            <a:gdLst>
              <a:gd name="textAreaLeft" fmla="*/ 360 w 578160"/>
              <a:gd name="textAreaRight" fmla="*/ 511920 w 578160"/>
              <a:gd name="textAreaTop" fmla="*/ 63576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0"/>
          <p:cNvSpPr/>
          <p:nvPr/>
        </p:nvSpPr>
        <p:spPr>
          <a:xfrm rot="5400000">
            <a:off x="1979280" y="2276640"/>
            <a:ext cx="576360" cy="865080"/>
          </a:xfrm>
          <a:custGeom>
            <a:avLst/>
            <a:gdLst>
              <a:gd name="textAreaLeft" fmla="*/ 0 w 576360"/>
              <a:gd name="textAreaRight" fmla="*/ 510120 w 576360"/>
              <a:gd name="textAreaTop" fmla="*/ 69408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17220" y="0"/>
                </a:moveTo>
                <a:lnTo>
                  <a:pt x="12840" y="5400"/>
                </a:lnTo>
                <a:lnTo>
                  <a:pt x="15330" y="5400"/>
                </a:lnTo>
                <a:lnTo>
                  <a:pt x="15330" y="17327"/>
                </a:lnTo>
                <a:lnTo>
                  <a:pt x="0" y="17327"/>
                </a:lnTo>
                <a:lnTo>
                  <a:pt x="0" y="21600"/>
                </a:lnTo>
                <a:lnTo>
                  <a:pt x="19110" y="21600"/>
                </a:lnTo>
                <a:lnTo>
                  <a:pt x="19110" y="5400"/>
                </a:lnTo>
                <a:lnTo>
                  <a:pt x="21600" y="5400"/>
                </a:lnTo>
                <a:lnTo>
                  <a:pt x="1722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2514600" y="3375000"/>
            <a:ext cx="4327560" cy="1004760"/>
            <a:chOff x="2514600" y="3375000"/>
            <a:chExt cx="4327560" cy="1004760"/>
          </a:xfrm>
        </p:grpSpPr>
        <p:sp>
          <p:nvSpPr>
            <p:cNvPr id="634" name="Line 12"/>
            <p:cNvSpPr/>
            <p:nvPr/>
          </p:nvSpPr>
          <p:spPr>
            <a:xfrm>
              <a:off x="4752720" y="3375000"/>
              <a:ext cx="0" cy="360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5" name="Group 13"/>
            <p:cNvGrpSpPr/>
            <p:nvPr/>
          </p:nvGrpSpPr>
          <p:grpSpPr>
            <a:xfrm>
              <a:off x="2514600" y="3806640"/>
              <a:ext cx="4327560" cy="573120"/>
              <a:chOff x="2514600" y="3806640"/>
              <a:chExt cx="4327560" cy="573120"/>
            </a:xfrm>
          </p:grpSpPr>
          <p:sp>
            <p:nvSpPr>
              <p:cNvPr id="636" name="Rectangle 14"/>
              <p:cNvSpPr/>
              <p:nvPr/>
            </p:nvSpPr>
            <p:spPr>
              <a:xfrm>
                <a:off x="2514600" y="3806640"/>
                <a:ext cx="4327560" cy="573120"/>
              </a:xfrm>
              <a:prstGeom prst="rect">
                <a:avLst/>
              </a:prstGeom>
              <a:solidFill>
                <a:srgbClr val="4f81bd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15"/>
              <p:cNvSpPr/>
              <p:nvPr/>
            </p:nvSpPr>
            <p:spPr>
              <a:xfrm>
                <a:off x="2690640" y="3895920"/>
                <a:ext cx="40068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aminación y/ó Desaminación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Rectangle 16"/>
          <p:cNvSpPr/>
          <p:nvPr/>
        </p:nvSpPr>
        <p:spPr>
          <a:xfrm>
            <a:off x="-281160" y="3436920"/>
            <a:ext cx="2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7"/>
          <p:cNvSpPr/>
          <p:nvPr/>
        </p:nvSpPr>
        <p:spPr>
          <a:xfrm>
            <a:off x="5612400" y="5348160"/>
            <a:ext cx="3559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- Proteí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- Aminoácidos No esen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Constituyentes nitrogen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 proteicos: purinas, pirimidin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porfirinas, ácidos biliares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18"/>
          <p:cNvGrpSpPr/>
          <p:nvPr/>
        </p:nvGrpSpPr>
        <p:grpSpPr>
          <a:xfrm>
            <a:off x="826920" y="4381560"/>
            <a:ext cx="7921800" cy="987120"/>
            <a:chOff x="826920" y="4381560"/>
            <a:chExt cx="7921800" cy="987120"/>
          </a:xfrm>
        </p:grpSpPr>
        <p:sp>
          <p:nvSpPr>
            <p:cNvPr id="641" name="Rectangle 19"/>
            <p:cNvSpPr/>
            <p:nvPr/>
          </p:nvSpPr>
          <p:spPr>
            <a:xfrm>
              <a:off x="826920" y="4773960"/>
              <a:ext cx="7921800" cy="59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gradac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iosínt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20"/>
            <p:cNvSpPr/>
            <p:nvPr/>
          </p:nvSpPr>
          <p:spPr>
            <a:xfrm rot="5400000">
              <a:off x="4562640" y="4464720"/>
              <a:ext cx="884160" cy="717480"/>
            </a:xfrm>
            <a:custGeom>
              <a:avLst/>
              <a:gdLst>
                <a:gd name="textAreaLeft" fmla="*/ 0 w 884160"/>
                <a:gd name="textAreaRight" fmla="*/ 782640 w 884160"/>
                <a:gd name="textAreaTop" fmla="*/ 576360 h 717480"/>
                <a:gd name="textAreaBottom" fmla="*/ 71748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1"/>
            <p:cNvSpPr/>
            <p:nvPr/>
          </p:nvSpPr>
          <p:spPr>
            <a:xfrm flipH="1" rot="16200000">
              <a:off x="3840480" y="4464000"/>
              <a:ext cx="884160" cy="718920"/>
            </a:xfrm>
            <a:custGeom>
              <a:avLst/>
              <a:gdLst>
                <a:gd name="textAreaLeft" fmla="*/ 0 w 884160"/>
                <a:gd name="textAreaRight" fmla="*/ 782640 w 884160"/>
                <a:gd name="textAreaTop" fmla="*/ 57636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22"/>
          <p:cNvGrpSpPr/>
          <p:nvPr/>
        </p:nvGrpSpPr>
        <p:grpSpPr>
          <a:xfrm>
            <a:off x="250920" y="5065560"/>
            <a:ext cx="4752720" cy="745920"/>
            <a:chOff x="250920" y="5065560"/>
            <a:chExt cx="4752720" cy="745920"/>
          </a:xfrm>
        </p:grpSpPr>
        <p:sp>
          <p:nvSpPr>
            <p:cNvPr id="645" name="Rectangle 23"/>
            <p:cNvSpPr/>
            <p:nvPr/>
          </p:nvSpPr>
          <p:spPr>
            <a:xfrm>
              <a:off x="250920" y="5445360"/>
              <a:ext cx="475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 - cetoácido           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amoníaco</a:t>
              </a:r>
              <a:r>
                <a:rPr b="0" lang="es-E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24"/>
            <p:cNvSpPr/>
            <p:nvPr/>
          </p:nvSpPr>
          <p:spPr>
            <a:xfrm rot="5400000">
              <a:off x="2689920" y="5075640"/>
              <a:ext cx="739800" cy="719280"/>
            </a:xfrm>
            <a:custGeom>
              <a:avLst/>
              <a:gdLst>
                <a:gd name="textAreaLeft" fmla="*/ 0 w 739800"/>
                <a:gd name="textAreaRight" fmla="*/ 654120 w 739800"/>
                <a:gd name="textAreaTop" fmla="*/ 57636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5"/>
            <p:cNvSpPr/>
            <p:nvPr/>
          </p:nvSpPr>
          <p:spPr>
            <a:xfrm flipH="1" rot="16200000">
              <a:off x="1968480" y="5074920"/>
              <a:ext cx="739800" cy="720720"/>
            </a:xfrm>
            <a:custGeom>
              <a:avLst/>
              <a:gdLst>
                <a:gd name="textAreaLeft" fmla="*/ 0 w 739800"/>
                <a:gd name="textAreaRight" fmla="*/ 654120 w 739800"/>
                <a:gd name="textAreaTop" fmla="*/ 57780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3366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Elipse 2"/>
          <p:cNvSpPr/>
          <p:nvPr/>
        </p:nvSpPr>
        <p:spPr>
          <a:xfrm>
            <a:off x="2368440" y="3687840"/>
            <a:ext cx="4651560" cy="7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6" descr="tra001"/>
          <p:cNvPicPr/>
          <p:nvPr/>
        </p:nvPicPr>
        <p:blipFill>
          <a:blip r:embed="rId2"/>
          <a:srcRect l="34897" t="4211" r="48844" b="56002"/>
          <a:stretch/>
        </p:blipFill>
        <p:spPr>
          <a:xfrm>
            <a:off x="826920" y="5802480"/>
            <a:ext cx="657360" cy="892080"/>
          </a:xfrm>
          <a:prstGeom prst="rect">
            <a:avLst/>
          </a:prstGeom>
          <a:ln w="0">
            <a:noFill/>
          </a:ln>
        </p:spPr>
      </p:pic>
      <p:sp>
        <p:nvSpPr>
          <p:cNvPr id="650" name="CuadroTexto 3"/>
          <p:cNvSpPr/>
          <p:nvPr/>
        </p:nvSpPr>
        <p:spPr>
          <a:xfrm>
            <a:off x="3719520" y="5869080"/>
            <a:ext cx="79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AR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1 Rectángulo"/>
          <p:cNvSpPr/>
          <p:nvPr/>
        </p:nvSpPr>
        <p:spPr>
          <a:xfrm>
            <a:off x="141120" y="642960"/>
            <a:ext cx="511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xisten defectos genéticos en diferentes enzimas del ciclo de la Urea que llevan a una incapacidad para convertir amoníaco en urea </a:t>
            </a:r>
            <a:r>
              <a:rPr b="1" lang="es-A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Hiperamoniemias, Citrulinemia, Argininemia y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Los pacientes que tienen alguna de estas patologías presentan intolerancia a dietas ricas en proteí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n estos casos para suplementar los aminoácidos esenciales se incluyen en la dieta los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-cetoácidos análogos que constituyen la parte esencial de estos aminoá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92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93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8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9" name="Imagen 1" descr=""/>
          <p:cNvPicPr/>
          <p:nvPr/>
        </p:nvPicPr>
        <p:blipFill>
          <a:blip r:embed="rId2"/>
          <a:stretch/>
        </p:blipFill>
        <p:spPr>
          <a:xfrm>
            <a:off x="5148360" y="1781280"/>
            <a:ext cx="3558960" cy="3725640"/>
          </a:xfrm>
          <a:prstGeom prst="rect">
            <a:avLst/>
          </a:prstGeom>
          <a:ln w="0">
            <a:noFill/>
          </a:ln>
        </p:spPr>
      </p:pic>
      <p:sp>
        <p:nvSpPr>
          <p:cNvPr id="1100" name="Cruz 2"/>
          <p:cNvSpPr/>
          <p:nvPr/>
        </p:nvSpPr>
        <p:spPr>
          <a:xfrm rot="20404200">
            <a:off x="5601960" y="2111400"/>
            <a:ext cx="358920" cy="360360"/>
          </a:xfrm>
          <a:prstGeom prst="plus">
            <a:avLst>
              <a:gd name="adj" fmla="val 403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Cruz 12"/>
          <p:cNvSpPr/>
          <p:nvPr/>
        </p:nvSpPr>
        <p:spPr>
          <a:xfrm rot="20404200">
            <a:off x="7545240" y="2758680"/>
            <a:ext cx="360360" cy="360360"/>
          </a:xfrm>
          <a:prstGeom prst="plus">
            <a:avLst>
              <a:gd name="adj" fmla="val 403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Cruz 13"/>
          <p:cNvSpPr/>
          <p:nvPr/>
        </p:nvSpPr>
        <p:spPr>
          <a:xfrm rot="20404200">
            <a:off x="6278400" y="4385880"/>
            <a:ext cx="360360" cy="360360"/>
          </a:xfrm>
          <a:prstGeom prst="plus">
            <a:avLst>
              <a:gd name="adj" fmla="val 403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Cruz 14"/>
          <p:cNvSpPr/>
          <p:nvPr/>
        </p:nvSpPr>
        <p:spPr>
          <a:xfrm rot="20404200">
            <a:off x="6321600" y="2903040"/>
            <a:ext cx="360360" cy="360360"/>
          </a:xfrm>
          <a:prstGeom prst="plus">
            <a:avLst>
              <a:gd name="adj" fmla="val 403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0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0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10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1114" name="Picture 12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1115" name="Text Box 13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4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15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16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7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18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9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20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21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22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23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24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25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26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27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9"/>
          <p:cNvSpPr/>
          <p:nvPr/>
        </p:nvSpPr>
        <p:spPr>
          <a:xfrm rot="20286000">
            <a:off x="4708440" y="1952640"/>
            <a:ext cx="2448000" cy="4535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0"/>
          <p:cNvSpPr/>
          <p:nvPr/>
        </p:nvSpPr>
        <p:spPr>
          <a:xfrm rot="16200000">
            <a:off x="87480" y="449496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tabolismo del nitróg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31"/>
          <p:cNvSpPr/>
          <p:nvPr/>
        </p:nvSpPr>
        <p:spPr>
          <a:xfrm>
            <a:off x="1407960" y="2644920"/>
            <a:ext cx="302436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32"/>
          <p:cNvSpPr/>
          <p:nvPr/>
        </p:nvSpPr>
        <p:spPr>
          <a:xfrm>
            <a:off x="5010120" y="2610000"/>
            <a:ext cx="26622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33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34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1136" name="Rectangle 35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77920" y="560160"/>
            <a:ext cx="86868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DESTINO DEL ESQUELETO CARBONADO DE LOS 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gún el destino que siga el esqueleto carbonado, luego de la separación del grupo amino, los aminoácidos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son precursores de cuerpos cetónicos a través de la formación de acetoacetato y acetil-C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</a:t>
            </a: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on precursores de intermediarios de la gluconeogénesis aportando piruvato, oxalacetato, fumarato, succinilCoA o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etogluta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 y 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parte de su molécula es cet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 y parte es gluc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40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41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5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4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4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156" name="Group 10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157" name="Group 11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158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9" name="Text Box 13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Text Box 14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Text Box 15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2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Rectangle 17"/>
          <p:cNvSpPr/>
          <p:nvPr/>
        </p:nvSpPr>
        <p:spPr>
          <a:xfrm>
            <a:off x="1692360" y="981000"/>
            <a:ext cx="1224000" cy="201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8"/>
          <p:cNvSpPr/>
          <p:nvPr/>
        </p:nvSpPr>
        <p:spPr>
          <a:xfrm rot="1042200">
            <a:off x="1782720" y="3252600"/>
            <a:ext cx="1150920" cy="30556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67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68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2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3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175" name="Group 17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176" name="Group 14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177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8" name="Text Box 11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Text Box 12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Text Box 13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Rectangle 15"/>
          <p:cNvSpPr/>
          <p:nvPr/>
        </p:nvSpPr>
        <p:spPr>
          <a:xfrm>
            <a:off x="2700360" y="4437000"/>
            <a:ext cx="934920" cy="201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Group 32"/>
          <p:cNvGrpSpPr/>
          <p:nvPr/>
        </p:nvGrpSpPr>
        <p:grpSpPr>
          <a:xfrm>
            <a:off x="1187280" y="519120"/>
            <a:ext cx="6521760" cy="6338880"/>
            <a:chOff x="1187280" y="519120"/>
            <a:chExt cx="6521760" cy="6338880"/>
          </a:xfrm>
        </p:grpSpPr>
        <p:pic>
          <p:nvPicPr>
            <p:cNvPr id="1185" name="Picture 2" descr=""/>
            <p:cNvPicPr/>
            <p:nvPr/>
          </p:nvPicPr>
          <p:blipFill>
            <a:blip r:embed="rId1"/>
            <a:stretch/>
          </p:blipFill>
          <p:spPr>
            <a:xfrm>
              <a:off x="1187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Text Box 11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26"/>
            <p:cNvSpPr/>
            <p:nvPr/>
          </p:nvSpPr>
          <p:spPr>
            <a:xfrm>
              <a:off x="4071960" y="2803680"/>
              <a:ext cx="9334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-HO-me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ansf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Text Box 27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28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29"/>
            <p:cNvSpPr/>
            <p:nvPr/>
          </p:nvSpPr>
          <p:spPr>
            <a:xfrm rot="1284000">
              <a:off x="3332160" y="451008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92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93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7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Group 24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1200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13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16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19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20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25"/>
          <p:cNvGrpSpPr/>
          <p:nvPr/>
        </p:nvGrpSpPr>
        <p:grpSpPr>
          <a:xfrm>
            <a:off x="1285920" y="1590840"/>
            <a:ext cx="1818000" cy="974880"/>
            <a:chOff x="1285920" y="1590840"/>
            <a:chExt cx="1818000" cy="974880"/>
          </a:xfrm>
        </p:grpSpPr>
        <p:sp>
          <p:nvSpPr>
            <p:cNvPr id="1207" name="Text Box 14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17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22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 Box 23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33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4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36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ángulo 5"/>
          <p:cNvSpPr/>
          <p:nvPr/>
        </p:nvSpPr>
        <p:spPr>
          <a:xfrm>
            <a:off x="3851280" y="5373720"/>
            <a:ext cx="26589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Grupo 4" descr=""/>
          <p:cNvPicPr/>
          <p:nvPr/>
        </p:nvPicPr>
        <p:blipFill>
          <a:blip r:embed="rId3"/>
          <a:stretch/>
        </p:blipFill>
        <p:spPr>
          <a:xfrm>
            <a:off x="3943440" y="5407200"/>
            <a:ext cx="2255760" cy="150624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35"/>
          <p:cNvSpPr/>
          <p:nvPr/>
        </p:nvSpPr>
        <p:spPr>
          <a:xfrm>
            <a:off x="3635280" y="2637000"/>
            <a:ext cx="280836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300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0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9" dur="20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2000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upo 1"/>
          <p:cNvGrpSpPr/>
          <p:nvPr/>
        </p:nvGrpSpPr>
        <p:grpSpPr>
          <a:xfrm>
            <a:off x="1547640" y="907920"/>
            <a:ext cx="6146640" cy="5531040"/>
            <a:chOff x="1547640" y="907920"/>
            <a:chExt cx="6146640" cy="5531040"/>
          </a:xfrm>
        </p:grpSpPr>
        <p:grpSp>
          <p:nvGrpSpPr>
            <p:cNvPr id="1220" name="Group 10"/>
            <p:cNvGrpSpPr/>
            <p:nvPr/>
          </p:nvGrpSpPr>
          <p:grpSpPr>
            <a:xfrm>
              <a:off x="1547640" y="907920"/>
              <a:ext cx="6146640" cy="5531040"/>
              <a:chOff x="1547640" y="907920"/>
              <a:chExt cx="6146640" cy="5531040"/>
            </a:xfrm>
          </p:grpSpPr>
          <p:grpSp>
            <p:nvGrpSpPr>
              <p:cNvPr id="1221" name="Group 11"/>
              <p:cNvGrpSpPr/>
              <p:nvPr/>
            </p:nvGrpSpPr>
            <p:grpSpPr>
              <a:xfrm>
                <a:off x="1547640" y="907920"/>
                <a:ext cx="6146640" cy="5384520"/>
                <a:chOff x="1547640" y="907920"/>
                <a:chExt cx="6146640" cy="5384520"/>
              </a:xfrm>
            </p:grpSpPr>
            <p:pic>
              <p:nvPicPr>
                <p:cNvPr id="1222" name="Picture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47640" y="907920"/>
                  <a:ext cx="6146640" cy="538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Text Box 13"/>
                <p:cNvSpPr/>
                <p:nvPr/>
              </p:nvSpPr>
              <p:spPr>
                <a:xfrm>
                  <a:off x="2943000" y="14238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14"/>
                <p:cNvSpPr/>
                <p:nvPr/>
              </p:nvSpPr>
              <p:spPr>
                <a:xfrm>
                  <a:off x="5462280" y="50097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Text Box 15"/>
                <p:cNvSpPr/>
                <p:nvPr/>
              </p:nvSpPr>
              <p:spPr>
                <a:xfrm>
                  <a:off x="4093920" y="28364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6" name="Text Box 16"/>
              <p:cNvSpPr/>
              <p:nvPr/>
            </p:nvSpPr>
            <p:spPr>
              <a:xfrm>
                <a:off x="2727000" y="61624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7" name="Text Box 16"/>
            <p:cNvSpPr/>
            <p:nvPr/>
          </p:nvSpPr>
          <p:spPr>
            <a:xfrm>
              <a:off x="169128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2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3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4" name="Picture 8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Rectangle 17"/>
          <p:cNvSpPr/>
          <p:nvPr/>
        </p:nvSpPr>
        <p:spPr>
          <a:xfrm rot="15312600">
            <a:off x="5892120" y="1665360"/>
            <a:ext cx="934920" cy="215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3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3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246" name="Group 10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247" name="Group 11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248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9" name="Text Box 13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Text Box 14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Text Box 15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3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Rectangle 17"/>
          <p:cNvSpPr/>
          <p:nvPr/>
        </p:nvSpPr>
        <p:spPr>
          <a:xfrm>
            <a:off x="3492360" y="3862440"/>
            <a:ext cx="1150920" cy="2446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56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57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1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2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1264" name="Picture 2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Rectángulo 1"/>
          <p:cNvSpPr/>
          <p:nvPr/>
        </p:nvSpPr>
        <p:spPr>
          <a:xfrm>
            <a:off x="2879640" y="3784680"/>
            <a:ext cx="3384720" cy="25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8" name="Conector recto de flecha 3"/>
          <p:cNvCxnSpPr/>
          <p:nvPr/>
        </p:nvCxnSpPr>
        <p:spPr>
          <a:xfrm>
            <a:off x="5254560" y="5949720"/>
            <a:ext cx="126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9" name="CuadroTexto 4"/>
          <p:cNvSpPr/>
          <p:nvPr/>
        </p:nvSpPr>
        <p:spPr>
          <a:xfrm>
            <a:off x="6530400" y="57643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ángulo 17"/>
          <p:cNvSpPr/>
          <p:nvPr/>
        </p:nvSpPr>
        <p:spPr>
          <a:xfrm>
            <a:off x="5254560" y="5346720"/>
            <a:ext cx="3384720" cy="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5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7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7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280" name="Group 10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281" name="Group 11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282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3" name="Text Box 13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Text Box 14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Text Box 15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808080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7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8" name="Rectangle 17"/>
          <p:cNvSpPr/>
          <p:nvPr/>
        </p:nvSpPr>
        <p:spPr>
          <a:xfrm rot="20403000">
            <a:off x="4809960" y="1120680"/>
            <a:ext cx="2660760" cy="1293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53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54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8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1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9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662" name="Text Box 12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13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664" name="Text Box 14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5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6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667" name="Text Box 17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8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9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9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Grupo 1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1298" name="Group 10"/>
            <p:cNvGrpSpPr/>
            <p:nvPr/>
          </p:nvGrpSpPr>
          <p:grpSpPr>
            <a:xfrm>
              <a:off x="1521000" y="923760"/>
              <a:ext cx="6146640" cy="5531400"/>
              <a:chOff x="1521000" y="923760"/>
              <a:chExt cx="6146640" cy="5531400"/>
            </a:xfrm>
          </p:grpSpPr>
          <p:grpSp>
            <p:nvGrpSpPr>
              <p:cNvPr id="1299" name="Group 11"/>
              <p:cNvGrpSpPr/>
              <p:nvPr/>
            </p:nvGrpSpPr>
            <p:grpSpPr>
              <a:xfrm>
                <a:off x="1521000" y="923760"/>
                <a:ext cx="6146640" cy="5384880"/>
                <a:chOff x="1521000" y="923760"/>
                <a:chExt cx="6146640" cy="5384880"/>
              </a:xfrm>
            </p:grpSpPr>
            <p:pic>
              <p:nvPicPr>
                <p:cNvPr id="1300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21000" y="923760"/>
                  <a:ext cx="6146640" cy="538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1" name="Text Box 13"/>
                <p:cNvSpPr/>
                <p:nvPr/>
              </p:nvSpPr>
              <p:spPr>
                <a:xfrm>
                  <a:off x="2916360" y="144000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Cuerpos cetó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Text Box 14"/>
                <p:cNvSpPr/>
                <p:nvPr/>
              </p:nvSpPr>
              <p:spPr>
                <a:xfrm>
                  <a:off x="5435640" y="5025960"/>
                  <a:ext cx="1100160" cy="27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Gluco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Text Box 15"/>
                <p:cNvSpPr/>
                <p:nvPr/>
              </p:nvSpPr>
              <p:spPr>
                <a:xfrm>
                  <a:off x="4067280" y="2852640"/>
                  <a:ext cx="1100160" cy="54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Arial"/>
                    </a:rPr>
                    <a:t>Ciclo de Kre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4" name="Text Box 16"/>
              <p:cNvSpPr/>
              <p:nvPr/>
            </p:nvSpPr>
            <p:spPr>
              <a:xfrm>
                <a:off x="2700360" y="6178680"/>
                <a:ext cx="934920" cy="276480"/>
              </a:xfrm>
              <a:prstGeom prst="rect">
                <a:avLst/>
              </a:prstGeom>
              <a:solidFill>
                <a:srgbClr val="ffc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Treon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16"/>
            <p:cNvSpPr/>
            <p:nvPr/>
          </p:nvSpPr>
          <p:spPr>
            <a:xfrm>
              <a:off x="1691640" y="5386680"/>
              <a:ext cx="934920" cy="276480"/>
            </a:xfrm>
            <a:prstGeom prst="rect">
              <a:avLst/>
            </a:prstGeom>
            <a:solidFill>
              <a:srgbClr val="da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Line 18"/>
          <p:cNvSpPr/>
          <p:nvPr/>
        </p:nvSpPr>
        <p:spPr>
          <a:xfrm>
            <a:off x="1116000" y="148428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9"/>
          <p:cNvSpPr/>
          <p:nvPr/>
        </p:nvSpPr>
        <p:spPr>
          <a:xfrm>
            <a:off x="1116000" y="184464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20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21"/>
          <p:cNvSpPr/>
          <p:nvPr/>
        </p:nvSpPr>
        <p:spPr>
          <a:xfrm>
            <a:off x="7524720" y="4149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30"/>
          <p:cNvGrpSpPr/>
          <p:nvPr/>
        </p:nvGrpSpPr>
        <p:grpSpPr>
          <a:xfrm>
            <a:off x="1187280" y="620640"/>
            <a:ext cx="6552720" cy="5760720"/>
            <a:chOff x="1187280" y="620640"/>
            <a:chExt cx="6552720" cy="5760720"/>
          </a:xfrm>
        </p:grpSpPr>
        <p:grpSp>
          <p:nvGrpSpPr>
            <p:cNvPr id="1311" name="Group 22"/>
            <p:cNvGrpSpPr/>
            <p:nvPr/>
          </p:nvGrpSpPr>
          <p:grpSpPr>
            <a:xfrm>
              <a:off x="1187280" y="620640"/>
              <a:ext cx="6552720" cy="5760720"/>
              <a:chOff x="1187280" y="620640"/>
              <a:chExt cx="6552720" cy="5760720"/>
            </a:xfrm>
          </p:grpSpPr>
          <p:grpSp>
            <p:nvGrpSpPr>
              <p:cNvPr id="1312" name="Group 20"/>
              <p:cNvGrpSpPr/>
              <p:nvPr/>
            </p:nvGrpSpPr>
            <p:grpSpPr>
              <a:xfrm>
                <a:off x="1187280" y="620640"/>
                <a:ext cx="6552720" cy="5760360"/>
                <a:chOff x="1187280" y="620640"/>
                <a:chExt cx="6552720" cy="5760360"/>
              </a:xfrm>
            </p:grpSpPr>
            <p:pic>
              <p:nvPicPr>
                <p:cNvPr id="1313" name="Picture 2" descr=""/>
                <p:cNvPicPr/>
                <p:nvPr/>
              </p:nvPicPr>
              <p:blipFill>
                <a:blip r:embed="rId1"/>
                <a:srcRect l="35746" t="4792" r="0" b="12547"/>
                <a:stretch/>
              </p:blipFill>
              <p:spPr>
                <a:xfrm>
                  <a:off x="1270080" y="7012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4" name="Rectangle 11"/>
                <p:cNvSpPr/>
                <p:nvPr/>
              </p:nvSpPr>
              <p:spPr>
                <a:xfrm>
                  <a:off x="1187280" y="6206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5" name="Rectangle 13"/>
              <p:cNvSpPr/>
              <p:nvPr/>
            </p:nvSpPr>
            <p:spPr>
              <a:xfrm>
                <a:off x="1270440" y="58946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Rectangle 14"/>
              <p:cNvSpPr/>
              <p:nvPr/>
            </p:nvSpPr>
            <p:spPr>
              <a:xfrm>
                <a:off x="4797720" y="28602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16"/>
              <p:cNvSpPr/>
              <p:nvPr/>
            </p:nvSpPr>
            <p:spPr>
              <a:xfrm>
                <a:off x="4869720" y="25671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Rectangle 18"/>
              <p:cNvSpPr/>
              <p:nvPr/>
            </p:nvSpPr>
            <p:spPr>
              <a:xfrm>
                <a:off x="4613040" y="53740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Rectangle 12"/>
              <p:cNvSpPr/>
              <p:nvPr/>
            </p:nvSpPr>
            <p:spPr>
              <a:xfrm>
                <a:off x="1270440" y="28105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Rectangle 21"/>
              <p:cNvSpPr/>
              <p:nvPr/>
            </p:nvSpPr>
            <p:spPr>
              <a:xfrm>
                <a:off x="1270440" y="39463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Text Box 28"/>
            <p:cNvSpPr/>
            <p:nvPr/>
          </p:nvSpPr>
          <p:spPr>
            <a:xfrm>
              <a:off x="6009120" y="314496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23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24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8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9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Text Box 24"/>
          <p:cNvSpPr/>
          <p:nvPr/>
        </p:nvSpPr>
        <p:spPr>
          <a:xfrm>
            <a:off x="5396760" y="172080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25"/>
          <p:cNvSpPr/>
          <p:nvPr/>
        </p:nvSpPr>
        <p:spPr>
          <a:xfrm>
            <a:off x="6483600" y="179532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 Box 27"/>
          <p:cNvSpPr/>
          <p:nvPr/>
        </p:nvSpPr>
        <p:spPr>
          <a:xfrm>
            <a:off x="4142520" y="277956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 Box 29"/>
          <p:cNvSpPr/>
          <p:nvPr/>
        </p:nvSpPr>
        <p:spPr>
          <a:xfrm>
            <a:off x="3032280" y="439884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4" name="Conector recto de flecha 25"/>
          <p:cNvCxnSpPr/>
          <p:nvPr/>
        </p:nvCxnSpPr>
        <p:spPr>
          <a:xfrm flipH="1">
            <a:off x="6857280" y="4149720"/>
            <a:ext cx="108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5" name="CuadroTexto 26"/>
          <p:cNvSpPr/>
          <p:nvPr/>
        </p:nvSpPr>
        <p:spPr>
          <a:xfrm>
            <a:off x="5865120" y="50054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ángulo 27"/>
          <p:cNvSpPr/>
          <p:nvPr/>
        </p:nvSpPr>
        <p:spPr>
          <a:xfrm>
            <a:off x="5867280" y="4149720"/>
            <a:ext cx="19018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5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3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3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4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Text Box 10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11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1"/>
          <p:cNvGrpSpPr/>
          <p:nvPr/>
        </p:nvGrpSpPr>
        <p:grpSpPr>
          <a:xfrm>
            <a:off x="712800" y="727200"/>
            <a:ext cx="8026560" cy="3251160"/>
            <a:chOff x="712800" y="727200"/>
            <a:chExt cx="8026560" cy="3251160"/>
          </a:xfrm>
        </p:grpSpPr>
        <p:grpSp>
          <p:nvGrpSpPr>
            <p:cNvPr id="670" name="Group 17"/>
            <p:cNvGrpSpPr/>
            <p:nvPr/>
          </p:nvGrpSpPr>
          <p:grpSpPr>
            <a:xfrm>
              <a:off x="712800" y="727200"/>
              <a:ext cx="8026560" cy="3251160"/>
              <a:chOff x="712800" y="727200"/>
              <a:chExt cx="8026560" cy="3251160"/>
            </a:xfrm>
          </p:grpSpPr>
          <p:pic>
            <p:nvPicPr>
              <p:cNvPr id="671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727200"/>
                <a:ext cx="802656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Text Box 14"/>
              <p:cNvSpPr/>
              <p:nvPr/>
            </p:nvSpPr>
            <p:spPr>
              <a:xfrm>
                <a:off x="964080" y="354672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15"/>
              <p:cNvSpPr/>
              <p:nvPr/>
            </p:nvSpPr>
            <p:spPr>
              <a:xfrm>
                <a:off x="6222240" y="354672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Text Box 16"/>
              <p:cNvSpPr/>
              <p:nvPr/>
            </p:nvSpPr>
            <p:spPr>
              <a:xfrm>
                <a:off x="3195360" y="268308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Rectangle 18"/>
            <p:cNvSpPr/>
            <p:nvPr/>
          </p:nvSpPr>
          <p:spPr>
            <a:xfrm>
              <a:off x="3915000" y="738360"/>
              <a:ext cx="107928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9"/>
            <p:cNvSpPr/>
            <p:nvPr/>
          </p:nvSpPr>
          <p:spPr>
            <a:xfrm>
              <a:off x="4059360" y="1746360"/>
              <a:ext cx="64764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20"/>
            <p:cNvSpPr/>
            <p:nvPr/>
          </p:nvSpPr>
          <p:spPr>
            <a:xfrm>
              <a:off x="3986280" y="2106720"/>
              <a:ext cx="79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8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4" name="Picture 8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Text Box 11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1284840" y="49536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3"/>
          <p:cNvSpPr/>
          <p:nvPr/>
        </p:nvSpPr>
        <p:spPr>
          <a:xfrm>
            <a:off x="7980480" y="2155680"/>
            <a:ext cx="71892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3446640" y="3102120"/>
            <a:ext cx="22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CuadroTexto 1"/>
          <p:cNvSpPr/>
          <p:nvPr/>
        </p:nvSpPr>
        <p:spPr>
          <a:xfrm>
            <a:off x="768240" y="4413240"/>
            <a:ext cx="767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Cuando se acumula ATP y GTP en la mitocondria, como consecuencia de una actividad elevada del ciclo de Krebs, se inhibe la desaminación del glutamato para no incorporar más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-cetoglutarato al cic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Por el contrario, cuando aumentan los niveles de ADP y GDP se activa la enzima y de esa forma se produce 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NADH</a:t>
            </a: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 que es utilizado para la síntesis de ATP e ingresa el  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</a:rPr>
              <a:t>α-cetoglutarato</a:t>
            </a: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  al Ciclo de Kre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CuadroTexto 2"/>
          <p:cNvSpPr/>
          <p:nvPr/>
        </p:nvSpPr>
        <p:spPr>
          <a:xfrm>
            <a:off x="2841840" y="10396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(Mitocondrias de hígado y riñ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4067280" y="3670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5435640" y="413244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6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7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8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9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0"/>
          <p:cNvSpPr/>
          <p:nvPr/>
        </p:nvSpPr>
        <p:spPr>
          <a:xfrm>
            <a:off x="179280" y="3789360"/>
            <a:ext cx="20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1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1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Rectangle 10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0"/>
          <p:cNvSpPr/>
          <p:nvPr/>
        </p:nvSpPr>
        <p:spPr>
          <a:xfrm>
            <a:off x="6877080" y="177336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1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44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721" name="Rectangle 13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5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32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724" name="Line 18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24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27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727" name="Line 17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25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Rectangle 26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31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43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732" name="Group 35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733" name="Line 19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22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s-ES_tradnl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Group 30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736" name="Line 16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23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Rectangle 28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9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3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34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41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743" name="Rectangle 36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7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9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40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49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50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4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5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Text Box 11"/>
          <p:cNvSpPr/>
          <p:nvPr/>
        </p:nvSpPr>
        <p:spPr>
          <a:xfrm>
            <a:off x="330120" y="1908000"/>
            <a:ext cx="57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12"/>
          <p:cNvGrpSpPr/>
          <p:nvPr/>
        </p:nvGrpSpPr>
        <p:grpSpPr>
          <a:xfrm>
            <a:off x="330120" y="2901960"/>
            <a:ext cx="8358120" cy="1768320"/>
            <a:chOff x="330120" y="2901960"/>
            <a:chExt cx="8358120" cy="1768320"/>
          </a:xfrm>
        </p:grpSpPr>
        <p:sp>
          <p:nvSpPr>
            <p:cNvPr id="758" name="Text Box 13"/>
            <p:cNvSpPr/>
            <p:nvPr/>
          </p:nvSpPr>
          <p:spPr>
            <a:xfrm>
              <a:off x="330120" y="3354480"/>
              <a:ext cx="542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Desami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14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760" name="Text Box 15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16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17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763" name="Text Box 18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19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6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6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1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no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38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775" name="Object 13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6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7" name="Text Box 14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91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779" name="Group 45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780" name="Group 23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781" name="Rectangle 24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Rectangle 25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26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Rectangle 27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Rectangle 28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Rectangle 29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Rectangle 30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Rectangle 31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32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33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34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35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Rectangle 36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" name="Text Box 37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Text Box 39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4"/>
          <p:cNvGrpSpPr/>
          <p:nvPr/>
        </p:nvGrpSpPr>
        <p:grpSpPr>
          <a:xfrm>
            <a:off x="3276720" y="2066760"/>
            <a:ext cx="2160360" cy="1621800"/>
            <a:chOff x="3276720" y="2066760"/>
            <a:chExt cx="2160360" cy="1621800"/>
          </a:xfrm>
        </p:grpSpPr>
        <p:sp>
          <p:nvSpPr>
            <p:cNvPr id="797" name="Line 18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20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rc 40"/>
            <p:cNvSpPr/>
            <p:nvPr/>
          </p:nvSpPr>
          <p:spPr>
            <a:xfrm>
              <a:off x="3635280" y="2781360"/>
              <a:ext cx="432000" cy="503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rc 41"/>
            <p:cNvSpPr/>
            <p:nvPr/>
          </p:nvSpPr>
          <p:spPr>
            <a:xfrm rot="15012000">
              <a:off x="4685040" y="2819880"/>
              <a:ext cx="432000" cy="496800"/>
            </a:xfrm>
            <a:custGeom>
              <a:avLst/>
              <a:gdLst/>
              <a:ahLst/>
              <a:rect l="l" t="t" r="r" b="b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 Box 42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 Box 43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46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90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806" name="Object 48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07" name="Object 4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8" name="Text Box 49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51"/>
          <p:cNvGrpSpPr/>
          <p:nvPr/>
        </p:nvGrpSpPr>
        <p:grpSpPr>
          <a:xfrm>
            <a:off x="3203640" y="4365720"/>
            <a:ext cx="2160360" cy="1621440"/>
            <a:chOff x="3203640" y="4365720"/>
            <a:chExt cx="2160360" cy="1621440"/>
          </a:xfrm>
        </p:grpSpPr>
        <p:sp>
          <p:nvSpPr>
            <p:cNvPr id="810" name="Line 52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53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54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rc 55"/>
            <p:cNvSpPr/>
            <p:nvPr/>
          </p:nvSpPr>
          <p:spPr>
            <a:xfrm>
              <a:off x="3562200" y="5079960"/>
              <a:ext cx="432000" cy="502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rc 56"/>
            <p:cNvSpPr/>
            <p:nvPr/>
          </p:nvSpPr>
          <p:spPr>
            <a:xfrm rot="15012000">
              <a:off x="4612320" y="5118120"/>
              <a:ext cx="431640" cy="496800"/>
            </a:xfrm>
            <a:custGeom>
              <a:avLst/>
              <a:gdLst/>
              <a:ahLst/>
              <a:rect l="l" t="t" r="r" b="b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57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58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92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818" name="Group 67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819" name="Group 68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820" name="Rectangle 69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Rectangle 70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Rectangle 71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Rectangle 72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Rectangle 73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74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Rectangle 75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76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Rectangle 77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s-ES_tradnl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Rectangle 78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79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Rectangle 80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81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82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83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84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85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Rectangle 86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Text Box 87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Text Box 88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Oval 89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4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4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11"/>
          <p:cNvSpPr/>
          <p:nvPr/>
        </p:nvSpPr>
        <p:spPr>
          <a:xfrm>
            <a:off x="2156760" y="533520"/>
            <a:ext cx="51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Me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28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851" name="Picture 10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852" name="Text Box 12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13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4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5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18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19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20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21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2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23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24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5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26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30"/>
          <p:cNvGrpSpPr/>
          <p:nvPr/>
        </p:nvGrpSpPr>
        <p:grpSpPr>
          <a:xfrm>
            <a:off x="1547640" y="1941840"/>
            <a:ext cx="4124160" cy="4917600"/>
            <a:chOff x="1547640" y="1941840"/>
            <a:chExt cx="4124160" cy="4917600"/>
          </a:xfrm>
        </p:grpSpPr>
        <p:sp>
          <p:nvSpPr>
            <p:cNvPr id="868" name="Oval 27"/>
            <p:cNvSpPr/>
            <p:nvPr/>
          </p:nvSpPr>
          <p:spPr>
            <a:xfrm rot="1249800">
              <a:off x="2340000" y="2276280"/>
              <a:ext cx="2663640" cy="4248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29"/>
            <p:cNvSpPr/>
            <p:nvPr/>
          </p:nvSpPr>
          <p:spPr>
            <a:xfrm rot="16200000">
              <a:off x="303120" y="4494960"/>
              <a:ext cx="31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tabolismo del nitróge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31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2"/>
          <p:cNvSpPr/>
          <p:nvPr/>
        </p:nvSpPr>
        <p:spPr>
          <a:xfrm>
            <a:off x="4356000" y="2637000"/>
            <a:ext cx="338292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35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38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9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11:52Z</dcterms:created>
  <dc:creator>Colossus User</dc:creator>
  <dc:description/>
  <dc:language>en-US</dc:language>
  <cp:lastModifiedBy>Ana Anzulovich</cp:lastModifiedBy>
  <dcterms:modified xsi:type="dcterms:W3CDTF">2017-10-16T22:14:43Z</dcterms:modified>
  <cp:revision>190</cp:revision>
  <dc:subject/>
  <dc:title>METABOLISMO DE LIPIDOS</dc:title>
</cp:coreProperties>
</file>